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109-FA70-4E66-A7FC-0730C569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23E-4132-49CB-BA52-FFCE45FB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AE29-69CA-4B35-BFCD-826E9E5E3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855-B196-422C-8B58-2BEEA754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CFD-1599-49B7-8A23-1F85C2EB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74F-72BA-4447-A177-2223DA04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339-629C-4A05-AFD5-DF0382D6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4F7-E50F-42E7-9DD8-EFA67DC3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9CC-3B1A-4E3C-A6DE-999C9243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637-D966-47AE-849D-7A107D5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8E6-4A65-411E-9E5F-96D77B04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FF2-E654-4247-B3A8-4081B41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708-CD5A-44EA-8BCD-C01D8FF7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44A-D946-43F4-82FC-99237A7C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D4F-F996-4910-A08C-241616F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A59-F8B5-4E64-BB35-9BF03AF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8DFF-9BCB-4F18-BE1C-9B7BD2B15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9" Type="http://schemas.openxmlformats.org/officeDocument/2006/relationships/image" Target="../media/image1.jpeg"/><Relationship Id="rId10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1" Type="http://schemas.openxmlformats.org/officeDocument/2006/relationships/image" Target="../media/image1.jpeg"/><Relationship Id="rId12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3" Type="http://schemas.openxmlformats.org/officeDocument/2006/relationships/image" Target="../media/image1.jpeg"/><Relationship Id="rId1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5" Type="http://schemas.openxmlformats.org/officeDocument/2006/relationships/image" Target="../media/image1.jpeg"/><Relationship Id="rId16" Type="http://schemas.openxmlformats.org/officeDocument/2006/relationships/hyperlink" Target="http://www.google.com/imgres?imgurl=http://www.netspeed.com.au/rryburn/Images/Slave_Owner.gif&amp;imgrefurl=http://www.netspeed.com.au/rryburn/USA.html&amp;usg=__2pOKxgK4REBkquJSi2tqDbMyd_8=&amp;h=382&amp;w=300&amp;sz=81&amp;hl=en&amp;start=6&amp;zoom=1&amp;um=1&amp;itbs=1&amp;tbnid=0tD3W3OSawQ8HM:&amp;tbnh=123&amp;tbnw=97&amp;prev=/search%3Fq%3Dslave%2Bowners%26um%3D1%26hl%3Den%26sa%3DN%26rlz%3D1W1GPEA_en%26biw%3D1260%26bih%3D575%26tbm%3Disch&amp;ei=6kvBTezKE4q_0QGm342zCg" TargetMode="External"/><Relationship Id="rId17" Type="http://schemas.openxmlformats.org/officeDocument/2006/relationships/image" Target="../media/image2.jpeg"/><Relationship Id="rId18" Type="http://schemas.openxmlformats.org/officeDocument/2006/relationships/hyperlink" Target="http://www.google.com/imgres?imgurl=http://100musicalfootsteps.files.wordpress.com/2009/03/bach-enstein.jpg&amp;imgrefurl=http://100musicalfootsteps.wordpress.com/tag/pics2/&amp;usg=__6Vpv8z9MYuKk9RBS2YcPLT47b-0=&amp;h=559&amp;w=475&amp;sz=97&amp;hl=en&amp;start=18&amp;zoom=1&amp;um=1&amp;itbs=1&amp;tbnid=93FMqIq7ouaShM:&amp;tbnh=133&amp;tbnw=113&amp;prev=/search%3Fq%3Dbach%26um%3D1%26hl%3Den%26safe%3Doff%26rlz%3D1W1GPEA_en%26biw%3D1260%26bih%3D575%26tbm%3Disch&amp;ei=q0zBTeuNLYT40gGj5JCzCg" TargetMode="External"/><Relationship Id="rId19" Type="http://schemas.openxmlformats.org/officeDocument/2006/relationships/image" Target="../media/image3.jpeg"/><Relationship Id="rId20" Type="http://schemas.openxmlformats.org/officeDocument/2006/relationships/hyperlink" Target="http://www.google.com/imgres?imgurl=http://100musicalfootsteps.files.wordpress.com/2009/03/bach-enstein.jpg&amp;imgrefurl=http://100musicalfootsteps.wordpress.com/tag/pics2/&amp;usg=__6Vpv8z9MYuKk9RBS2YcPLT47b-0=&amp;h=559&amp;w=475&amp;sz=97&amp;hl=en&amp;start=18&amp;zoom=1&amp;um=1&amp;itbs=1&amp;tbnid=93FMqIq7ouaShM:&amp;tbnh=133&amp;tbnw=113&amp;prev=/search%3Fq%3Dbach%26um%3D1%26hl%3Den%26safe%3Doff%26rlz%3D1W1GPEA_en%26biw%3D1260%26bih%3D575%26tbm%3Disch&amp;ei=q0zBTeuNLYT40gGj5JCzCg" TargetMode="External"/><Relationship Id="rId21" Type="http://schemas.openxmlformats.org/officeDocument/2006/relationships/image" Target="../media/image3.jpeg"/><Relationship Id="rId22" Type="http://schemas.openxmlformats.org/officeDocument/2006/relationships/hyperlink" Target="http://www.google.com/imgres?imgurl=http://www.ariahotel.net/blog/wp-content/uploads/2011/01/Wolfgang%2BAmadeus%2BMozart%2B1mozart.jpg&amp;imgrefurl=http://www.ariahotel.net/blog/%3Fp%3D349&amp;usg=__rep3-Gr0ZcKJ_vwovbYaN955UQI=&amp;h=554&amp;w=466&amp;sz=88&amp;hl=en&amp;start=4&amp;zoom=1&amp;um=1&amp;itbs=1&amp;tbnid=6bD_yzz9HvA1dM:&amp;tbnh=133&amp;tbnw=112&amp;prev=/search%3Fq%3Dmozart%26um%3D1%26hl%3Den%26safe%3Dactive%26rlz%3D1W1GPEA_en%26biw%3D1260%26bih%3D575%26tbm%3Disch&amp;ei=x03BTZmHDaXq0gGckZWzCg" TargetMode="External"/><Relationship Id="rId23" Type="http://schemas.openxmlformats.org/officeDocument/2006/relationships/image" Target="../media/image4.jpeg"/><Relationship Id="rId24" Type="http://schemas.openxmlformats.org/officeDocument/2006/relationships/hyperlink" Target="http://www.google.com/imgres?imgurl=http://3.bp.blogspot.com/_CvDCiEFbNy8/SaVLQt5dFtI/AAAAAAAAGE4/otF5Vp2p3qE/s400/1708-10%2BHenrietta%2BJohnston%2B1674-1729%2BMarianne%2BFleur%2BDu%2BGue%2BMrs%2BPierre%2BBacot%2BMet.jpg&amp;imgrefurl=http://b-womeninamericanhistory18.blogspot.com/2009/02/women-in-america-timeline-1700-1710.html&amp;usg=__mXq3hU5szzx4PbBohnP-vpHBmmo=&amp;h=400&amp;w=306&amp;sz=22&amp;hl=en&amp;start=16&amp;zoom=1&amp;um=1&amp;itbs=1&amp;tbnid=cWPy5sT4wDyGQM:&amp;tbnh=124&amp;tbnw=95&amp;prev=/search%3Fq%3D1700s%2Bwomen%26um%3D1%26hl%3Den%26safe%3Dactive%26rlz%3D1W1GPEA_en%26biw%3D1260%26bih%3D575%26tbm%3Disch&amp;ei=D07BTaqKDuPq0gH3r-mzCg" TargetMode="External"/><Relationship Id="rId25" Type="http://schemas.openxmlformats.org/officeDocument/2006/relationships/image" Target="../media/image5.jpeg"/><Relationship Id="rId26" Type="http://schemas.openxmlformats.org/officeDocument/2006/relationships/hyperlink" Target="http://www.google.com/imgres?imgurl=http://www.solarnavigator.net/history/explorers_history/George_Washington_1772.jpg&amp;imgrefurl=http://www.solarnavigator.net/history/george_washington.htm&amp;usg=__-RUMr2mvFP9XBp8jXWP5Ff1oDLQ=&amp;h=442&amp;w=335&amp;sz=31&amp;hl=en&amp;start=16&amp;zoom=1&amp;itbs=1&amp;tbnid=p0RMRRLBdD-M_M:&amp;tbnh=127&amp;tbnw=96&amp;prev=/search%3Fq%3Dgeorge%2Bwashington%26hl%3Den%26safe%3Dactive%26sa%3DG%26biw%3D1260%26bih%3D614%26gbv%3D2%26tbm%3Disch&amp;ei=1pnCTZC6Ko-4tgf45t22BQ" TargetMode="External"/><Relationship Id="rId27" Type="http://schemas.openxmlformats.org/officeDocument/2006/relationships/image" Target="../media/image6.jpeg"/><Relationship Id="rId28" Type="http://schemas.openxmlformats.org/officeDocument/2006/relationships/hyperlink" Target="http://www.google.com/imgres?imgurl=http://68.171.209.174/development/images/thumbnails/PM-AA32LG%255B0%255D.jpg&amp;imgrefurl=http://www.cosplaysupplies.com/store.php%3Fs%3DA4EO&amp;usg=__9sIY8wM7pJ3ssEnFWqBiitrRt70=&amp;h=200&amp;w=200&amp;sz=17&amp;hl=en&amp;start=2&amp;zoom=1&amp;itbs=1&amp;tbnid=gITS87J_h1lmUM:&amp;tbnh=104&amp;tbnw=104&amp;prev=/search%3Fq%3D1700s%2Bwench%26hl%3Den%26safe%3Dactive%26biw%3D1260%26bih%3D614%26gbv%3D2%26tbm%3Disch&amp;ei=O5vCTdraFsO2twfe2e3XBA" TargetMode="External"/><Relationship Id="rId29" Type="http://schemas.openxmlformats.org/officeDocument/2006/relationships/image" Target="../media/image7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" Target="slide3.xml"/><Relationship Id="rId5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www.google.com/imgres?imgurl=http://www.goetzloff.at/nbc/Contact-Sites/flags/grossbritannieng.gif&amp;imgrefurl=http://therocketmeadow.com/corsets-religious-beliefs-during-the-years-1798-1832-in-britain/&amp;usg=__vA2plylHLHC5cPFauUR-JVeU7o0=&amp;h=300&amp;w=600&amp;sz=4&amp;hl=en&amp;start=6&amp;zoom=1&amp;itbs=1&amp;tbnid=ggze1F-Z9er3qM:&amp;tbnh=68&amp;tbnw=135&amp;prev=/search%3Fq%3Dbritain%26hl%3Den%26safe%3Dactive%26biw%3D1260%26bih%3D614%26gbv%3D2%26tbm%3Disch&amp;ei=aprCTefaKMGBtgeEmbG0BQ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google.com/imgres?imgurl=http://tuckahoe.wikispaces.com/file/view/South-Slaves.jpg/30618093/South-Slaves.jpg&amp;imgrefurl=http://tuckahoe.wikispaces.com/Which%2BU.S.%2Bregion%2Bfelt%2Bthat%2Bthe%2Babolition%2Bof%2Bslavery%2Bwould%2Bdestroy%2Btheir%2Bregion%25E2%2580%2599s%2Beconomy%253F&amp;usg=__2UwqgebLecPR_l28HOA9LYyiNmA=&amp;h=527&amp;w=650&amp;sz=90&amp;hl=en&amp;start=43&amp;zoom=1&amp;itbs=1&amp;tbnid=wxfaKvlYyiorTM:&amp;tbnh=111&amp;tbnw=137&amp;prev=/search%3Fq%3Dslaves%26start%3D40%26hl%3Den%26safe%3Doff%26sa%3DN%26gbv%3D2%26ndsp%3D20%26biw%3D1260%26bih%3D575%26tbm%3Disch&amp;ei=Kv2_Te3iKcft0gG0uPynBQ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0.jpeg"/><Relationship Id="rId4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5" Type="http://schemas.openxmlformats.org/officeDocument/2006/relationships/image" Target="../media/image1.jpeg"/><Relationship Id="rId6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7" Type="http://schemas.openxmlformats.org/officeDocument/2006/relationships/image" Target="../media/image1.jpeg"/><Relationship Id="rId8" Type="http://schemas.openxmlformats.org/officeDocument/2006/relationships/hyperlink" Target="http://www.google.com/imgres?imgurl=http://tuckahoe.wikispaces.com/file/view/South-Slaves.jpg/30618093/South-Slaves.jpg&amp;imgrefurl=http://tuckahoe.wikispaces.com/Which%2BU.S.%2Bregion%2Bfelt%2Bthat%2Bthe%2Babolition%2Bof%2Bslavery%2Bwould%2Bdestroy%2Btheir%2Bregion%25E2%2580%2599s%2Beconomy%253F&amp;usg=__2UwqgebLecPR_l28HOA9LYyiNmA=&amp;h=527&amp;w=650&amp;sz=90&amp;hl=en&amp;start=43&amp;zoom=1&amp;itbs=1&amp;tbnid=wxfaKvlYyiorTM:&amp;tbnh=111&amp;tbnw=137&amp;prev=/search%3Fq%3Dslaves%26start%3D40%26hl%3Den%26safe%3Doff%26sa%3DN%26gbv%3D2%26ndsp%3D20%26biw%3D1260%26bih%3D575%26tbm%3Disch&amp;ei=Kv2_Te3iKcft0gG0uPynBQ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www.google.com/imgres?imgurl=http://mrwoodkis.phoenix.wikispaces.net/file/view/prod_11404.jpg/144903829/prod_11404.jpg&amp;imgrefurl=http://mrwoodkis.phoenix.wikispaces.net/A%2BSouthern%2BPlantation%2BOwner&amp;usg=__fGZFCo3vNz6ui_pFnwxvyg2D9FQ=&amp;h=229&amp;w=200&amp;sz=13&amp;hl=en&amp;start=58&amp;zoom=1&amp;itbs=1&amp;tbnid=Mfcjokd4Z2AzTM:&amp;tbnh=108&amp;tbnw=94&amp;prev=/search%3Fq%3Dsouthern%2Bplantation%2Bowners%26start%3D40%26hl%3Den%26safe%3Doff%26sa%3DN%26gbv%3D2%26ndsp%3D20%26biw%3D1260%26bih%3D575%26tbm%3Disch&amp;ei=0fq_Te-3JOaD0QGfoNWvBQ" TargetMode="External"/><Relationship Id="rId11" Type="http://schemas.openxmlformats.org/officeDocument/2006/relationships/image" Target="../media/image1.jpeg"/><Relationship Id="rId12" Type="http://schemas.openxmlformats.org/officeDocument/2006/relationships/hyperlink" Target="http://www.google.com/imgres?imgurl=http://www.goetzloff.at/nbc/Contact-Sites/flags/grossbritannieng.gif&amp;imgrefurl=http://therocketmeadow.com/corsets-religious-beliefs-during-the-years-1798-1832-in-britain/&amp;usg=__vA2plylHLHC5cPFauUR-JVeU7o0=&amp;h=300&amp;w=600&amp;sz=4&amp;hl=en&amp;start=6&amp;zoom=1&amp;itbs=1&amp;tbnid=ggze1F-Z9er3qM:&amp;tbnh=68&amp;tbnw=135&amp;prev=/search%3Fq%3Dbritain%26hl%3Den%26safe%3Dactive%26biw%3D1260%26bih%3D614%26gbv%3D2%26tbm%3Disch&amp;ei=aprCTefaKMGBtgeEmbG0BQ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google.com/imgres?imgurl=http://www.thepirateslair.com/images/vintage-nautical-desks-tables-sea-chests/100-wood-dome-3quarters.jpg&amp;imgrefurl=http://www.thepirateslair.com/authentic-antique-trunks-nautical-furniture-2.html&amp;usg=__Fpv4dBnMG1U2_iEnjKF8I41qr2g=&amp;h=419&amp;w=456&amp;sz=50&amp;hl=en&amp;start=10&amp;zoom=1&amp;itbs=1&amp;tbnid=SwzZWp7uZglrsM:&amp;tbnh=118&amp;tbnw=128&amp;prev=/search%3Fq%3Dwooden%2BChest%26hl%3Den%26safe%3Dactive%26biw%3D1260%26bih%3D614%26gbv%3D2%26tbm%3Disch&amp;ei=N57CTcuFJI2ztwfgjJWADA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1600200" y="1522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Lock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ockton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2133720" y="121932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2280" y="3657600"/>
            <a:ext cx="16002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09480" y="586728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3"/>
          <p:cNvSpPr/>
          <p:nvPr/>
        </p:nvSpPr>
        <p:spPr>
          <a:xfrm>
            <a:off x="0" y="662940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          Geo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ing a par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ember 18,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2819520" y="5334120"/>
            <a:ext cx="464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z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2666880" y="32767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you coming to my show 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British just took Fort Washington!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7,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British are in the harbor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st bought 2 sla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7"/>
          <p:cNvSpPr/>
          <p:nvPr/>
        </p:nvSpPr>
        <p:spPr>
          <a:xfrm>
            <a:off x="2666880" y="58672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pes everyone will support the British troop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4" descr="http://t3.gstatic.com/images?q=tbn:ANd9GcR274fQka-fVxji9UryfeAui7lIW7jlHarbQkZhk_MhnyrkREEcMUyl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45720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4" descr="http://t3.gstatic.com/images?q=tbn:ANd9GcR274fQka-fVxji9UryfeAui7lIW7jlHarbQkZhk_MhnyrkREEcMUyl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4" descr="http://t3.gstatic.com/images?q=tbn:ANd9GcR274fQka-fVxji9UryfeAui7lIW7jlHarbQkZhk_MhnyrkREEcMUylE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4" descr="http://t3.gstatic.com/images?q=tbn:ANd9GcR274fQka-fVxji9UryfeAui7lIW7jlHarbQkZhk_MhnyrkREEcMUyl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33720" y="44197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4" descr="http://t3.gstatic.com/images?q=tbn:ANd9GcR274fQka-fVxji9UryfeAui7lIW7jlHarbQkZhk_MhnyrkREEcMUylE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133720" y="50292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4" descr="http://t3.gstatic.com/images?q=tbn:ANd9GcR274fQka-fVxji9UryfeAui7lIW7jlHarbQkZhk_MhnyrkREEcMUylE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133720" y="56386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9" descr="http://t3.gstatic.com/images?q=tbn:ANd9GcSWXWo9TKgZLRoMuAlWRWdd5P431cMN5JXoIy9NnV3TfLPonCm5rseEgIQ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1" descr="http://t0.gstatic.com/images?q=tbn:ANd9GcS0M9rcVp4GcEsg1rzf8OhKSs_u8M_WUJyu31sNtCq2U7deHi6V8iG2rCCJ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5334120"/>
            <a:ext cx="45252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3" descr="http://t0.gstatic.com/images?q=tbn:ANd9GcS0M9rcVp4GcEsg1rzf8OhKSs_u8M_WUJyu31sNtCq2U7deHi6V8iG2rCCJ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33720" y="3200400"/>
            <a:ext cx="457200" cy="538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5" descr="http://t3.gstatic.com/images?q=tbn:ANd9GcQeZTKVb3oa2IYCzw8_GdCBqn5r_lBv3qXRWmrhBoyBY46y7BhItxtZLocV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295280" y="6095880"/>
            <a:ext cx="45720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7" descr="http://t2.gstatic.com/images?q=tbn:ANd9GcTEPr7889_Y34T4s5WyqIMLKhE1D58Ue6nWnMpwXHnMBhDwU2rCsvcaGw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295280" y="5334120"/>
            <a:ext cx="40824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6" descr="http://t0.gstatic.com/images?q=tbn:ANd9GcR9YsuhYXEgVfMl-s-dPncOIfWDfvZO8gPPQglm-lTuQhrcYg9ZmNYrGUs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762120" y="6095880"/>
            <a:ext cx="380880" cy="505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8" descr="http://t2.gstatic.com/images?q=tbn:ANd9GcTRYSa4s1WFUS2CilNItU3ZV9JeOwTqP5W_sLU7sko6Io3Y7cdw90v0sQ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0" y="6095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2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524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ing a par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>
            <a:hlinkClick r:id="rId1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ockton (4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ockte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Lockt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>
            <a:hlinkClick r:id="rId3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hode Is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adam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Beating slaves, eating, drinking, and honoring Engla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ructing  ways  to help  the  Loyalists destroy the Patrio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thoven, Bach, Brahms, and Moz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What the **BLEEP** is a movie!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.V.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lavery for Dummies, How To Destroy An Arm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     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70) 267-51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4" descr="http://t3.gstatic.com/images?q=tbn:ANd9GcR274fQka-fVxji9UryfeAui7lIW7jlHarbQkZhk_MhnyrkREEcMUylE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60948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1" descr="http://t2.gstatic.com/images?q=tbn:ANd9GcQbk6kHRYWnsvYjU7BMiFT2RvYvDhKJ1KsQe1FLj9G50arj5Kz26Fvu88J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6172200"/>
            <a:ext cx="685800" cy="498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3"/>
          <p:cNvSpPr/>
          <p:nvPr/>
        </p:nvSpPr>
        <p:spPr>
          <a:xfrm flipV="1" rot="10800000">
            <a:off x="838080" y="6094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HAIL BRIT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Yester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7" descr="http://t2.gstatic.com/images?q=tbn:ANd9GcStOD_lFjxFASCBvUKFGwtTJ1PO4w4DVPtqZZnkpIBE7KmPQVFnxu9oIFbc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5410080"/>
            <a:ext cx="60948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ter L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685800" y="4724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ton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3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62120" y="6324480"/>
            <a:ext cx="99036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IL BRI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Sla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Lockt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rowing a party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6" descr=""/>
          <p:cNvPicPr/>
          <p:nvPr/>
        </p:nvPicPr>
        <p:blipFill>
          <a:blip r:embed="rId3"/>
          <a:stretch/>
        </p:blipFill>
        <p:spPr>
          <a:xfrm>
            <a:off x="838080" y="24382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4" descr="http://t3.gstatic.com/images?q=tbn:ANd9GcR274fQka-fVxji9UryfeAui7lIW7jlHarbQkZhk_MhnyrkREEcMUyl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57600" y="5105520"/>
            <a:ext cx="914400" cy="104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4" descr="http://t3.gstatic.com/images?q=tbn:ANd9GcR274fQka-fVxji9UryfeAui7lIW7jlHarbQkZhk_MhnyrkREEcMUylE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4572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7" descr="http://t2.gstatic.com/images?q=tbn:ANd9GcStOD_lFjxFASCBvUKFGwtTJ1PO4w4DVPtqZZnkpIBE7KmPQVFnxu9oIFbc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05120" y="51055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4" descr="http://t3.gstatic.com/images?q=tbn:ANd9GcR274fQka-fVxji9UryfeAui7lIW7jlHarbQkZhk_MhnyrkREEcMUylE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2286000"/>
            <a:ext cx="1523880" cy="1741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1" descr="http://t2.gstatic.com/images?q=tbn:ANd9GcQbk6kHRYWnsvYjU7BMiFT2RvYvDhKJ1KsQe1FLj9G50arj5Kz26Fvu88J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2120" y="5181480"/>
            <a:ext cx="9554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3" descr="http://t1.gstatic.com/images?q=tbn:ANd9GcS4AjHiYVuU2xK5J3mWRTSjQwmRT_FMiCWP29Ympw4ypY1CJmn1FjtgJE8m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91120" y="2362320"/>
            <a:ext cx="1466640" cy="1676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5" descr="http://t3.gstatic.com/images?q=tbn:ANd9GcTH4srRDX4qwuafwBihm4bXFk9FzvqfWrOEtx6LMXIVXyqj_t27K3rDEL0m"/>
          <p:cNvPicPr/>
          <p:nvPr/>
        </p:nvPicPr>
        <p:blipFill>
          <a:blip r:embed="rId16"/>
          <a:stretch/>
        </p:blipFill>
        <p:spPr>
          <a:xfrm>
            <a:off x="6019920" y="2438280"/>
            <a:ext cx="1752480" cy="1524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1"/>
          <p:cNvSpPr/>
          <p:nvPr/>
        </p:nvSpPr>
        <p:spPr>
          <a:xfrm>
            <a:off x="36576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1:35:34Z</dcterms:modified>
  <cp:revision>36</cp:revision>
  <dc:subject/>
  <dc:title>Profile</dc:title>
</cp:coreProperties>
</file>